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7" name="PlaceHolder 1"/>
          <p:cNvSpPr>
            <a:spLocks noGrp="1"/>
          </p:cNvSpPr>
          <p:nvPr>
            <p:ph type="hdr"/>
          </p:nvPr>
        </p:nvSpPr>
        <p:spPr>
          <a:xfrm>
            <a:off x="-360" y="-360"/>
            <a:ext cx="42750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48" name="PlaceHolder 2"/>
          <p:cNvSpPr>
            <a:spLocks noGrp="1"/>
          </p:cNvSpPr>
          <p:nvPr>
            <p:ph type="dt" idx="128"/>
          </p:nvPr>
        </p:nvSpPr>
        <p:spPr>
          <a:xfrm>
            <a:off x="558792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49" name="PlaceHolder 3"/>
          <p:cNvSpPr>
            <a:spLocks noGrp="1"/>
          </p:cNvSpPr>
          <p:nvPr>
            <p:ph type="sldImg"/>
          </p:nvPr>
        </p:nvSpPr>
        <p:spPr>
          <a:xfrm>
            <a:off x="3249360" y="504720"/>
            <a:ext cx="3367080" cy="2525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50" name="PlaceHolder 4"/>
          <p:cNvSpPr>
            <a:spLocks noGrp="1"/>
          </p:cNvSpPr>
          <p:nvPr>
            <p:ph type="body"/>
          </p:nvPr>
        </p:nvSpPr>
        <p:spPr>
          <a:xfrm>
            <a:off x="987120" y="3198960"/>
            <a:ext cx="789300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51" name="PlaceHolder 5"/>
          <p:cNvSpPr>
            <a:spLocks noGrp="1"/>
          </p:cNvSpPr>
          <p:nvPr>
            <p:ph type="ftr" idx="129"/>
          </p:nvPr>
        </p:nvSpPr>
        <p:spPr>
          <a:xfrm>
            <a:off x="-360" y="6397200"/>
            <a:ext cx="42750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52" name="PlaceHolder 6"/>
          <p:cNvSpPr>
            <a:spLocks noGrp="1"/>
          </p:cNvSpPr>
          <p:nvPr>
            <p:ph type="sldNum" idx="130"/>
          </p:nvPr>
        </p:nvSpPr>
        <p:spPr>
          <a:xfrm>
            <a:off x="5587920" y="6397200"/>
            <a:ext cx="4276800" cy="336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7B5F-8F05-4FE7-802B-BB433E118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3249720" y="504720"/>
            <a:ext cx="3367080" cy="2525760"/>
          </a:xfrm>
          <a:prstGeom prst="rect">
            <a:avLst/>
          </a:prstGeom>
          <a:ln w="0">
            <a:noFill/>
          </a:ln>
        </p:spPr>
      </p:sp>
      <p:sp>
        <p:nvSpPr>
          <p:cNvPr id="2080"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1"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B8CF-68AC-4284-BFC2-994B43FB7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3249720" y="504720"/>
            <a:ext cx="3367080" cy="2525760"/>
          </a:xfrm>
          <a:prstGeom prst="rect">
            <a:avLst/>
          </a:prstGeom>
          <a:ln w="0">
            <a:noFill/>
          </a:ln>
        </p:spPr>
      </p:sp>
      <p:sp>
        <p:nvSpPr>
          <p:cNvPr id="2107"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rocess speeches require you to carefully delineate the steps and the order in which they occur. The steps typically become the main points, and concrete explanations of each step become the subpoints. Most process speeches rely heavily on the demonstration method of informing.</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xpository speeches require that the speaker use an extensive research base for preparing the presentation, choose an organizational pattern that helps the audience understand the material being discussed, and use a variety of informative methods (e.g., descriptions, definitions, comparisons and contrasts, narration, demonstrations) to sustain the audience’s attention and comprehension of the material presented.</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8"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36D2-74F6-4C67-8DA4-05ECB8A5A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3249720" y="504720"/>
            <a:ext cx="3367080" cy="2525760"/>
          </a:xfrm>
          <a:prstGeom prst="rect">
            <a:avLst/>
          </a:prstGeom>
          <a:ln w="0">
            <a:noFill/>
          </a:ln>
        </p:spPr>
      </p:sp>
      <p:sp>
        <p:nvSpPr>
          <p:cNvPr id="2083"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4"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A0B6-5CC5-43D1-BD11-87563F52C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sldImg"/>
          </p:nvPr>
        </p:nvSpPr>
        <p:spPr>
          <a:xfrm>
            <a:off x="3249720" y="504720"/>
            <a:ext cx="3367080" cy="2525760"/>
          </a:xfrm>
          <a:prstGeom prst="rect">
            <a:avLst/>
          </a:prstGeom>
          <a:ln w="0">
            <a:noFill/>
          </a:ln>
        </p:spPr>
      </p:sp>
      <p:sp>
        <p:nvSpPr>
          <p:cNvPr id="2086"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ve speeches answer questions about a topic, such as who, when, what, where, why, how to, and how does. Informative speaking differs from other speech forms (such as speaking to persuade, to entertain, or to celebrate) in that your goal is simply to achieve mutual understanding about an object, person, place, process, event, idea, concept, or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7"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5E25-3DD6-4507-A293-217FFFF0A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PlaceHolder 1"/>
          <p:cNvSpPr>
            <a:spLocks noGrp="1"/>
          </p:cNvSpPr>
          <p:nvPr>
            <p:ph type="sldImg"/>
          </p:nvPr>
        </p:nvSpPr>
        <p:spPr>
          <a:xfrm>
            <a:off x="3249720" y="504720"/>
            <a:ext cx="3367080" cy="2525760"/>
          </a:xfrm>
          <a:prstGeom prst="rect">
            <a:avLst/>
          </a:prstGeom>
          <a:ln w="0">
            <a:noFill/>
          </a:ln>
        </p:spPr>
      </p:sp>
      <p:sp>
        <p:nvSpPr>
          <p:cNvPr id="2089"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audience will perceive information to be </a:t>
            </a:r>
            <a:r>
              <a:rPr b="0" i="1" lang="en-US" sz="1200" spc="-1" strike="noStrike">
                <a:solidFill>
                  <a:srgbClr val="000000"/>
                </a:solidFill>
                <a:latin typeface="Arial"/>
              </a:rPr>
              <a:t>intellectually stimulating</a:t>
            </a:r>
            <a:r>
              <a:rPr b="0" lang="en-US" sz="1200" spc="-1" strike="noStrike">
                <a:solidFill>
                  <a:srgbClr val="000000"/>
                </a:solidFill>
                <a:latin typeface="Arial"/>
              </a:rPr>
              <a:t> when it is new to them and when it is explained in a way that piques their curiosity and excites their interes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orporate </a:t>
            </a:r>
            <a:r>
              <a:rPr b="0" i="1" lang="en-US" sz="1200" spc="-1" strike="noStrike">
                <a:solidFill>
                  <a:srgbClr val="000000"/>
                </a:solidFill>
                <a:latin typeface="Arial"/>
              </a:rPr>
              <a:t>listener-relevance links</a:t>
            </a:r>
            <a:r>
              <a:rPr b="0" lang="en-US" sz="1200" spc="-1" strike="noStrike">
                <a:solidFill>
                  <a:srgbClr val="000000"/>
                </a:solidFill>
                <a:latin typeface="Arial"/>
              </a:rPr>
              <a:t>—statements that clarify how a particular point may be important to a listener—throughout the speech.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audience will perceive your information to be </a:t>
            </a:r>
            <a:r>
              <a:rPr b="0" i="1" lang="en-US" sz="1200" spc="-1" strike="noStrike">
                <a:solidFill>
                  <a:srgbClr val="000000"/>
                </a:solidFill>
                <a:latin typeface="Arial"/>
              </a:rPr>
              <a:t>creative</a:t>
            </a:r>
            <a:r>
              <a:rPr b="0" lang="en-US" sz="1200" spc="-1" strike="noStrike">
                <a:solidFill>
                  <a:srgbClr val="000000"/>
                </a:solidFill>
                <a:latin typeface="Arial"/>
              </a:rPr>
              <a:t> when it yields innovative ideas. Creative informative speeches begin with good research.</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peech is really informative, your audience will hear a lot of new information but will need your help in remembering what is most important. Effective informative speeches emphasize the specific goal, main ideas, and key facts in ways that help audience members remembe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0"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D36F-1C7C-496C-9BFD-F67265DF5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Rectangle 7"/>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CDD6-9B8A-4E95-A323-EE998CA16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2" name="PlaceHolder 1"/>
          <p:cNvSpPr>
            <a:spLocks noGrp="1"/>
          </p:cNvSpPr>
          <p:nvPr>
            <p:ph type="sldImg"/>
          </p:nvPr>
        </p:nvSpPr>
        <p:spPr>
          <a:xfrm>
            <a:off x="3249720" y="504720"/>
            <a:ext cx="3367080" cy="2525760"/>
          </a:xfrm>
          <a:prstGeom prst="rect">
            <a:avLst/>
          </a:prstGeom>
          <a:ln w="0">
            <a:noFill/>
          </a:ln>
        </p:spPr>
      </p:sp>
      <p:sp>
        <p:nvSpPr>
          <p:cNvPr id="2093"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epicted in the exhibit a “referent” is the </a:t>
            </a:r>
            <a:r>
              <a:rPr b="0" i="1" lang="en-US" sz="1200" spc="-1" strike="noStrike">
                <a:solidFill>
                  <a:srgbClr val="000000"/>
                </a:solidFill>
                <a:latin typeface="Arial"/>
              </a:rPr>
              <a:t>thing</a:t>
            </a:r>
            <a:r>
              <a:rPr b="0" lang="en-US" sz="1200" spc="-1" strike="noStrike">
                <a:solidFill>
                  <a:srgbClr val="000000"/>
                </a:solidFill>
                <a:latin typeface="Arial"/>
              </a:rPr>
              <a:t> or object we refer to with a word, which is the “symbol” we use to refer to it. Our audience then attaches meaning to that symbol, which is labeled the “thought of refer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3249720" y="504720"/>
            <a:ext cx="3367080" cy="2525760"/>
          </a:xfrm>
          <a:prstGeom prst="rect">
            <a:avLst/>
          </a:prstGeom>
          <a:ln w="0">
            <a:noFill/>
          </a:ln>
        </p:spPr>
      </p:sp>
      <p:sp>
        <p:nvSpPr>
          <p:cNvPr id="2095"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members of your audience differ in how they prefer to learn, effective informative speeches are developed in ways that address diverse learning style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ing the cycle ensures that you address the diverse learning styles of your audience and make the speech understandable, meaningful, and memorable for all. To help you round the cycle, you might even make note of where and how you address each dimension in your speech outline.</a:t>
            </a:r>
            <a:endParaRPr b="0" lang="en-US" sz="1200" spc="-1" strike="noStrike">
              <a:solidFill>
                <a:srgbClr val="000000"/>
              </a:solidFill>
              <a:latin typeface="Arial"/>
            </a:endParaRPr>
          </a:p>
        </p:txBody>
      </p:sp>
      <p:sp>
        <p:nvSpPr>
          <p:cNvPr id="2096"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A7E7-38EF-4523-A493-63A2A7CDE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sldImg"/>
          </p:nvPr>
        </p:nvSpPr>
        <p:spPr>
          <a:xfrm>
            <a:off x="3249720" y="504720"/>
            <a:ext cx="3367080" cy="2525760"/>
          </a:xfrm>
          <a:prstGeom prst="rect">
            <a:avLst/>
          </a:prstGeom>
          <a:ln w="0">
            <a:noFill/>
          </a:ln>
        </p:spPr>
      </p:sp>
      <p:sp>
        <p:nvSpPr>
          <p:cNvPr id="2098"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ity is the ability to sound natural as you speak—as though you are really thinking about the ideas </a:t>
            </a:r>
            <a:r>
              <a:rPr b="0" i="1" lang="en-US" sz="1200" spc="-1" strike="noStrike">
                <a:solidFill>
                  <a:srgbClr val="000000"/>
                </a:solidFill>
                <a:latin typeface="Arial"/>
              </a:rPr>
              <a:t>and</a:t>
            </a:r>
            <a:r>
              <a:rPr b="0" lang="en-US" sz="1200" spc="-1" strike="noStrike">
                <a:solidFill>
                  <a:srgbClr val="000000"/>
                </a:solidFill>
                <a:latin typeface="Arial"/>
              </a:rPr>
              <a:t> getting them across to the audience as you speak. The secret to developing a conversational style is to learn the </a:t>
            </a:r>
            <a:r>
              <a:rPr b="0" i="1" lang="en-US" sz="1200" spc="-1" strike="noStrike">
                <a:solidFill>
                  <a:srgbClr val="000000"/>
                </a:solidFill>
                <a:latin typeface="Arial"/>
              </a:rPr>
              <a:t>ideas</a:t>
            </a:r>
            <a:r>
              <a:rPr b="0" lang="en-US" sz="1200" spc="-1" strike="noStrike">
                <a:solidFill>
                  <a:srgbClr val="000000"/>
                </a:solidFill>
                <a:latin typeface="Arial"/>
              </a:rPr>
              <a:t> of your speech rather than trying to memorize every </a:t>
            </a:r>
            <a:r>
              <a:rPr b="0" i="1" lang="en-US" sz="1200" spc="-1" strike="noStrike">
                <a:solidFill>
                  <a:srgbClr val="000000"/>
                </a:solidFill>
                <a:latin typeface="Arial"/>
              </a:rPr>
              <a:t>word</a:t>
            </a: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be conversational and animated at the same time by focusing on conveying the passion you feel about your topic through your voice and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9"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B8B4-AB03-4204-B0B8-E1BC3F56B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3249720" y="504720"/>
            <a:ext cx="3367080" cy="2525760"/>
          </a:xfrm>
          <a:prstGeom prst="rect">
            <a:avLst/>
          </a:prstGeom>
          <a:ln w="0">
            <a:noFill/>
          </a:ln>
        </p:spPr>
      </p:sp>
      <p:sp>
        <p:nvSpPr>
          <p:cNvPr id="2101"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cription</a:t>
            </a:r>
            <a:r>
              <a:rPr b="0" lang="en-US" sz="1200" spc="-1" strike="noStrike">
                <a:solidFill>
                  <a:srgbClr val="000000"/>
                </a:solidFill>
                <a:latin typeface="Arial"/>
              </a:rPr>
              <a:t> is a method used to create an accurate, vivid, verbal picture of an object, geographic feature, setting, event, person, or image. This method usually answers an overarching “who,” “what,” or “where” question.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finition</a:t>
            </a:r>
            <a:r>
              <a:rPr b="0" lang="en-US" sz="1200" spc="-1" strike="noStrike">
                <a:solidFill>
                  <a:srgbClr val="000000"/>
                </a:solidFill>
                <a:latin typeface="Arial"/>
              </a:rPr>
              <a:t> is a method that explains the meaning of something. You can define a word or idea by classifying it and differentiating it from similar ideas; by explaining its derivation or history; by explaining its use or function; or by using a familiar synonym or antonym.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arison and contrast</a:t>
            </a:r>
            <a:r>
              <a:rPr b="0" lang="en-US" sz="1200" spc="-1" strike="noStrike">
                <a:solidFill>
                  <a:srgbClr val="000000"/>
                </a:solidFill>
                <a:latin typeface="Arial"/>
              </a:rPr>
              <a:t> is a method of informing that focuses on how something is similar to and different from other thing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rration</a:t>
            </a:r>
            <a:r>
              <a:rPr b="0" lang="en-US" sz="1200" spc="-1" strike="noStrike">
                <a:solidFill>
                  <a:srgbClr val="000000"/>
                </a:solidFill>
                <a:latin typeface="Arial"/>
              </a:rPr>
              <a:t> is a method of informing that recounts an autobiographical or biographical event, a myth, a story, or some other account. Characteristics of a good narration include a strong story line; use of descriptive language and details that enhance the plot, people, setting, and events; effective use of dialogue; pacing that builds suspense; and a strong voic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monstration</a:t>
            </a:r>
            <a:r>
              <a:rPr b="0" lang="en-US" sz="1200" spc="-1" strike="noStrike">
                <a:solidFill>
                  <a:srgbClr val="000000"/>
                </a:solidFill>
                <a:latin typeface="Arial"/>
              </a:rPr>
              <a:t> is a method of informing that shows how something is done, displays the stages of a process, or depicts how something works. In a demonstration, you organize the steps from first to last so that your audience will be able to remember the sequence.  Effective demonstrations require considerable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2"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3DC2-B606-41C2-A8F5-C24F8F1C3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3249720" y="504720"/>
            <a:ext cx="3367080" cy="2525760"/>
          </a:xfrm>
          <a:prstGeom prst="rect">
            <a:avLst/>
          </a:prstGeom>
          <a:ln w="0">
            <a:noFill/>
          </a:ln>
        </p:spPr>
      </p:sp>
      <p:sp>
        <p:nvSpPr>
          <p:cNvPr id="2104"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rocess speeches require you to carefully delineate the steps and the order in which they occur. The steps typically become the main points, and concrete explanations of each step become the subpoints. Most process speeches rely heavily on the demonstration method of informing.</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xpository speeches require that the speaker use an extensive research base for preparing the presentation, choose an organizational pattern that helps the audience understand the material being discussed, and use a variety of informative methods (e.g., descriptions, definitions, comparisons and contrasts, narration, demonstrations) to sustain the audience’s attention and comprehension of the material presented.</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5"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411E-D149-41C0-A89C-FE219AAE9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66438-B29D-4C41-9651-5FB54AD5A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F0BC6-24EC-4EFD-AF6F-C06BFFD59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F275A1-FE02-4F80-9C67-15C95078C8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958FBA-213B-496D-A09F-8A04E8F5FD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43FF86-78FD-417C-A722-141FF020CD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BA85D6-B70B-4B2C-B02C-861507AA51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6E530E-B286-43A0-AD4F-4324BC229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AA0C30-867D-43BD-8699-5B73C8528B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32DD77-CCE9-4774-9797-2391DF5266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FE042A-EB07-4CF9-869E-096C05BFDC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E0F630-C18A-4011-AC1A-771EBB025D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39F4BE-6CE6-40F4-9A5C-D50FE39229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B0EB1-0DE5-49E8-9243-84729345B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EE3220-BA0E-42BB-8B7A-EE9F33B55E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A4F201-6F2B-4CEC-B471-4828C15F6D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ABFB18-32FD-40B7-91FB-6856E6D1C7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0F3A20-7ADE-4286-B0BF-8ED5D03D4F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614FA5-8426-4D63-A814-0C717865D7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14C13F-94B3-4935-B166-C8F1011F39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C2CF1C-0C00-4CC6-A812-0595AFFB37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676A51-747F-4FCB-8028-426310B436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88711B-DBC8-4CCB-9CEE-8F0244609F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3E3FB9-3936-4B72-937D-26A9D66C2D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4E4E2-D0B7-4E2F-B32C-3640783AA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387735-6E5F-42E4-A156-07F1C7669E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76A604-03FB-40AB-9278-CC86979A0B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5B30FE-E8D8-436B-BAC9-1265DEF3D4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B125CC-20B2-49E6-8F00-092A2BA78B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E7B73F-E2DA-4E13-86F2-158E2535BB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2EDD88-A3E9-47F9-880A-70F51A9F00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01BE90-B559-4F07-BAB1-8816446399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5CA24C-9B87-47B0-9F8D-AD13ACF505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69A836-A13E-4A80-B7FF-7864CC5078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3331E3-B99D-4538-9DB3-1BB7BCE641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FE134-EF30-4959-A05D-B08B488C4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326A70-C92C-471A-A0B3-624158EFBA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3AC982-B26D-4338-BD91-0441F39E18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3C48B5-92C3-4FA7-A5AD-622DCDD5F5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C48F6C-E72E-4CDA-932D-949E0A25C4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EC83E4-11E4-42DE-82BB-25FBA7C70B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935597-33E5-4C65-983C-EE21EE44F6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D7F703-AC03-4F13-90C9-8CB9BD78CD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BADB7C-ADE7-49CA-A865-E1FA8C73C3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2D6D55-6E60-4DDE-BB3F-AC4ED90C93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D11261-D9AE-42CA-A3A5-00C8EBD020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BF46A-7923-437D-9D72-965923A93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F28C92-CA6C-491A-BE02-7A2248D21D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68A1F3-5F8D-4552-B61B-5EAB568A21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1A90F0-C058-41BF-86B6-F3EDC01807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ADCCACB-BAA4-4C32-A025-3C5766000F5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E35F7E-0204-4D2A-9C59-E5F242E52A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5BFF0BB-D496-4B92-BAB9-6523A039CA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B3F781-B8B5-492A-ABA5-4E3E4119B1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405BF6F-0D74-4206-BC5D-5FA75039A9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140512-77FA-460E-A3CE-F93A619B41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2062E9-BB55-4797-A440-F38ABDCB17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FA25D-475A-4B62-9F14-EEB6699A3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2264B3-42C2-48BC-9A9E-A58479A42F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29270E-5716-4D03-B85A-1851AB6C8F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120EC8-6559-4A6F-A583-B4C191B16A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51AFAB-2424-4CFE-B55C-4DE8A57815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886AF0-1134-4797-A27D-829A6DB8CD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F55EEB-C04C-49CF-A8D8-F8E5E7DA7F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588170E-7632-4A46-9369-162C39C305F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D72526D-8E8F-4BD4-9B96-83AA3F727D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36DB30A-FFC7-4B91-B5B3-C7B180EBF6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DBC4B8-AC80-4AAC-A945-242DCB6B6A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F58B8-CB1F-40BF-A68D-E719288F3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4C0BCE-6D6D-4FA2-A1A4-2F9C1629C7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1BA033-984C-40C5-BBFF-F40DA0FA085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FA67D5-5160-4249-A068-D55B728A69E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9D2A56-35D0-48EC-B138-9DC9BC711B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302200-97C7-4848-AF2B-CB10EB3E27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064940-33A2-47C9-9FAF-27AB2F9D54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69AF7B-14B4-4ED9-84D7-4B05BFA929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0B84A5-99D9-4CD8-AB0F-EDD82091F8C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FE44C89-D6B1-4C22-ABC9-0DA395DBA69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9E0D7E3-4A2B-406F-835A-6F6FE5B2A59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17B3C-C068-40B3-AFA1-3E42BDC3F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18C7F2-26F2-4BEB-AF0A-40DBE41606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48FCD4-C680-4EF4-8D65-BD6BD379B3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2E65BDD-E14C-4ACF-9F26-02093F2271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63D172-4B0F-41CB-AF7A-1778EC28B9F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A05353-F32D-4DC4-AB73-C1CAFD1977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0629A52-42DE-413E-90AE-EFD948894F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8C2BA5E-95A3-4781-917C-DA1A2BE06C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7EFC1F-B756-42F4-995F-35EAAF8946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98DEAD2-B206-41AD-BB43-46D9023174C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5008CCA-72B2-4C7A-AA7C-747E740A6BE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AA768-BB15-44DB-BBF6-D057C4625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4058869-601E-4BF3-8FF7-221D5A2EDF4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F7F7A13-9886-46BF-801F-B1CF329BF6D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94772E-CFC6-4CE4-9925-CA937F2707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0AC3CCB-02CA-463C-BEE7-74877D34A5F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B1AF70-6671-4A37-A0A3-0D57AA7C9C8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67C5B8-29CD-4BB8-A06A-F51470296F8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15ABC59-D0DA-4FD9-A57A-F5C4F9BF2BE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D62350-7522-458E-B2B7-16A3BEAF0A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9AC739-C684-4239-818C-BCAAD0716B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E075A10-6625-4928-9188-93D437CA49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BB784-7570-40C9-9164-A67DB7187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A09318-FF30-48BD-B08E-B05E29C58C4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390A1EF-46A9-4A41-8826-8A736812933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AB0F25A-ED12-4A19-A09F-5DCDCE794CC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BC03E79-1CF2-4D34-8932-360C03AF33F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BFC724C-5CA0-498E-8D64-2BF52CB23F5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30DCC1-281F-447B-86B0-0E599B54BF5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76C80BA-67E9-4B71-AE8F-D45C0AA2AC0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0359B94-D8FA-4412-B054-F331011DFFD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9ACA234-4809-42EA-A53E-5440D1AAB00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07F7600-22C0-4DB6-9E53-52B18185795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9863C-B056-4EAC-8F88-F455BF66E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F560E-C37D-4C38-A862-3B78C2FB3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146C50-69B5-436C-B74A-76079884E4F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B33C4A1-9C72-4532-ACA1-E36ADC9588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17E9D3D-ED05-49A7-8210-76FDC0D27BD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741CB8F-343F-4CC6-AC50-A0F5B80C15C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3467A95-D649-47E3-96A0-191182B4A4B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84C5F47-3CBA-4575-90C7-1BA3D06CCBC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B513282-34D6-49CA-A84D-6703643F25A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D836F95-9A7B-4F1A-AC6E-65BB286182F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5D535CB-D158-478F-88ED-11F4F16E9C4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36EEF55-BDF9-486E-BC29-707423D6A3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714F5-0E98-4486-9E5D-DD167F206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796A296-990E-4EEF-8653-5E0B8174225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07FB25A-9884-4FC6-9979-FB55AFC446A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66814E-52F2-4756-A26D-F3239C37A7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48060F5-3BE4-4C2A-9B67-E7859180D9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6205796-D803-411E-83EF-D9D032F0B37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2BE1C9D-C47E-4A75-81C0-DC039D2A02F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7AEC963-399F-4990-ABE5-FDD25AEFE44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DD25A3A-D910-4AB8-AE79-6F1E3491C12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0535BD7-8A19-446A-AB59-4C51AF54FC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83DDBCB-24DE-452E-898E-2D0C120244B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65C77-AD46-4748-BD03-7FF9F0A06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583E283-6775-4FF5-B034-EEB2FE9E8EB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FE3BCA-5004-4710-912C-68032BE4817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F9C4B69-EB2D-477F-BC2B-366508C189A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C83B67D-B914-4332-8A2B-9B993BEEAF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B109F27-66DE-4790-8442-367F0C4A6BB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AB65F2F-3EC1-467A-8F68-C7EE8B3231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C97C56F-9AA3-491D-A34F-0A876DE1226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B0D192F-5B28-4B04-8976-167E3E09A0B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AAB5002-24CF-4313-8D26-CC04C7BF2D7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08568BE-6058-49F1-9F00-2ADD5B29C27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7AF3A-0890-4727-8A0D-8A3253C7A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9A6F6EF-5FBA-4B15-88F7-C6F45520D62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7C15307-4B99-4D8B-9192-A8375528A46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4B051D0-78A4-4F3B-B888-2AFA113189D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A5B91C0-4E96-495C-8AE8-9DD354E3751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370B529-658F-43C5-9434-C9957C18850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3AD9D6-91ED-439E-BBA4-A20D871A20D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2E2B756-89B4-419B-AE3B-C45F275F66F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4AE2D48-5328-42EF-AA72-ACE114723A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85ED9B4-710B-4AF7-8B93-108AB1ABDEB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1BAC236-2807-410D-8BB9-C7E4E38A81A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6EA45-14BD-4F17-BBE9-627BCE2ED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26BF322-06C3-4D48-AA18-2BC2A67D993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6B1F4AC-480D-4D87-8550-9299F30D740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1194391-ED27-4D14-A5DC-5C8209AF5CD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445EAB0-D4AF-4CC9-A439-8B86B189B71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D5464CB-7D56-4D90-8EA6-CC84C5B69A4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DD56838-267F-434E-B364-1B1DE00E566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43EF07B-3F0B-41E8-8087-4396EF031BD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E240D8F-9233-43F8-A31B-54CC7B94666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D7490CA-421A-4CAC-A143-A89F0F219E2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204E81B-2146-43BD-97BC-B7BC268C8FD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3D3F0F-733A-4F27-AD61-F4DF73C32D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B20ACFC-18D5-4F83-8BBD-2549894C69F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7DD6EF0-08F1-4C04-ABF2-0465356C0B0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758791D-A958-4405-9771-2B2A4162C65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9EBAC13-9029-4669-B5CA-4D6168499DA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E5CA7EF-659B-4288-800A-1959C45FC1D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389233A-49C8-47AD-818B-D8A7B71DD53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2D92179-8843-4179-8B56-B06DF2999AB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D0F70D2-4627-4B92-9042-4DD408B22E0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11A4E61-C74D-4F14-8A3F-DD8D705ED3D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87C51A2-EF61-42C8-9ACB-6426F1E75FA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637938-585E-4177-8345-1A65BA4F93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B07BCBB-2956-4DF3-B1B5-8EF634BF9D0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5B1250C-8F97-40E9-A33E-D7F8606B625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061EABB-A292-4FC2-AB32-91495E0D182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45A2B0C-375F-4027-80A7-0DFF397F4B5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2C9CB37-7A89-47F2-AC80-07C3002C8AA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5D41775-BFA4-450A-AEA9-BEEA2B92064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8F0AA92-77D7-4802-81BB-8F7126C9A1B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AC2A772-252A-418F-A477-93F2E3A65C7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39EAFBD-9870-4DA6-82EA-A0FFF6E2F41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EDD4024-3E1C-447B-95D4-070D26B9BDF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C8543A-06F0-4231-8CF1-8EBC1EA2F7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3AEDBDE-FCE8-422F-B681-1AA5EB271A6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AE13AD4-66CD-441F-A6C0-99830C5F6CE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176F8FA-B508-4754-AF5C-56158B16444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B624B7A-17B5-467D-A2F4-2B6105D413D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D12EA71-E897-4E89-9C4C-982E59703FC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7FF4A6A-65D6-4D07-B4E0-BFD21C9C9EE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055D614-6463-49D9-B36E-E56663B8EFC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C73834A-5261-428E-9E98-C3965D79659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10645E8-5340-48A3-A3FA-5F47822C3E7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ACEE92E-12F0-49D4-B3DB-E3107EB9A82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908CA-92FC-4F8A-9B9A-CC6673506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37EF8BC-A926-4704-A054-26B5A319C3E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C670A5E-9425-4DDF-B75A-24AF708DCCD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7DF4746-CE18-4D70-AE46-1470CED9AD9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D4D28DB-EAE1-4420-A47D-A746CB5AEAA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C53814F-46FE-41D3-AA1F-2DA0EAB45C7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23FBEFF-D05F-4BE9-BBCA-C091AC36936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DA27FAA-7475-429D-BCD7-36EE8EBDBE9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C44C760-626A-40BE-B831-AEA0C8B6574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FD94117-C16C-4C86-9212-EF0DB0006B2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F3DED61-54B1-487D-9E4D-EFB234EC5F3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A53BF9-AC1B-46C4-8052-14C14BC6E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D9CF1BB-082B-481C-88D9-D461243610B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C8B1AFB-B61D-41EA-A3A5-184A344D7E7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B778AAB-0217-4DCE-8013-5F0BE65DCC2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E1E17DC-220A-4F95-8BF0-4DC6538E8C5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D02346F-1A62-44E0-9247-B871D2C1803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2CE564E-44F0-432C-9C75-A59CF39619D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7E51843-C3AA-4884-BB9B-ED594E2E343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B216DAD-F06E-4A80-AC61-259A6BAF790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FB6692B-34BF-4614-ADD9-663F7366A5C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79333DB-E7B1-4750-9740-413160573A0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B4C5C-8A84-4A63-B55F-6852F1A32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233EDB-9B1B-4CF9-9929-6CB34D3A0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046B457-6018-4B12-882F-2065A081F5E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176DF54-4633-440E-BC60-E47C109FBCD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D21A1C7-6B41-4E93-BC07-ADE8F94F6E7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9E80137-8F33-4F37-9508-A7D938F6728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3B0284D-9A08-4061-AF82-1BC208912B9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6A86BE6-C9AD-437F-A055-834B1DCC501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B44F486-95DB-4F8E-BAB6-D0005E1B0C1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1E8E472-4A29-4D77-8F68-196C7CECD87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6D70EE8-9A73-4A34-A1E0-A47FD29C366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CBC554E-C20D-4F7A-9A6F-2F79C076A64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C60F2-32A5-4FCA-8C98-A042399FC9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95957EE-97CF-4511-9A76-BA05E973282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13751CF-A40D-46D3-A740-6468F93854F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BF1BE2C-870E-4039-A704-EDAB275703E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5F9E2BA-1B7E-4E52-9FF3-C896F583A67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AC0115D-193C-4320-BED1-E601C8DD028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214B047-3F79-4BBE-AFFD-94D0160547D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072495C-BD8D-4E88-A21F-7C8151FC423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500A74E-5CCC-4E84-8EDC-FA8BDA50E04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C3C8B7E-797A-4449-BBA2-8285DC2979F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9FF46A7-80A5-4863-938B-A3A17BE350C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8F608-E858-42FF-B024-02A01635A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B16FE3C-8646-4EB1-B25F-8D51B26F045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87B54E0-7D26-4C2E-AE74-58DA07067BF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5661F04-38F4-4A2D-A6D1-7867D9AEA19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532F37E-2B7A-46C3-AECC-57522DC1A1E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B947106-AE81-4451-87BB-78004D4406C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0FF8177-EDBA-49AD-8A12-663C9514C7A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40BFDC3-FCCF-421C-A0DA-6AAD67D5ACA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0F210FB-6636-4AD2-B7A9-53A83C60767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E9B8E67-BD80-4D98-B1CF-7E4B7811EA6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BC5894C-0FD0-4911-AE58-84CCC60ABC5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57381-CCAA-4EB1-BC58-00E5F1FDC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1CF9BF8-4DD7-4A52-A377-ED078AB01E0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530D7A5-3BB2-4D51-BC99-0412E1B6813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8874522-BBB6-4956-8931-A282858DAC2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7233EEA-D03D-4989-8B5A-34665B903BE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9FAA5C6-141F-4F1C-89B0-EB08E203261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2FDD467-84EA-4410-A2CE-262D51DF478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191FB09-CFDB-45F6-83A7-3943DAF5ECA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1CCDFCF-2466-41D1-9491-32E1DECF288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D9E1B05-5B02-49AC-840B-453461087BE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DA70111-7542-4B54-83E8-D1A79A79660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772F22-DD80-445D-A342-B6F1E82BA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6455C3A-C493-497E-AEE2-76E4F00E78E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08095E9-2843-4F7F-862F-4F36D3F2DB9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F246DF6-05CC-4CD3-9C78-1489DBFBB02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3623880-BBB5-4B85-8920-8374B39FE46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B0947B4-9B47-4B0F-A483-27163ADED2F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C2E6E32-9546-4AF0-B451-6B4D0CEDDD8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F3E247B-9BAC-4920-A528-2D3ADA02C8F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14FD4AB-06AC-4BD4-9B8C-1D52E0866E1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41D0832-4CDC-4083-9F71-6710BBE6257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41699CD-60FC-493B-8356-ACFCE67D7F3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F88283-3F70-4F2F-A9BA-0A37DF1987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F29C6EA-E996-42B2-9FBA-7AA4F4BE160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986617A-D664-4641-83CB-2779C6237A5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3D00A4C-5A9C-45E3-BA47-1BD4C8927E1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DF9F574-18BC-4DBC-86B5-48A8CCDD29D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3064A8E-5F76-4765-9830-8B890954207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B89B39A-2965-4B13-8703-557BCB87418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A90503F-4DB1-4BF8-8D74-4EE285911B6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36A21F8-4991-44BD-98E8-79DF38FA011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F6CC69A-34F5-4EB8-B56A-40184A2945C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291CE5B8-D711-44E7-9AB9-55AA310C50F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0414EC-2731-4BC4-8F29-7477BA4747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F985E5F-99AF-4BA4-AA5B-0D948688BBD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11BF4A-BB09-477B-8588-B27D0FD59E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AD05E2-E51B-4AB5-82B9-8573FE9BB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B77701-AFF3-4134-857F-9219DA7DD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dt" idx="9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dt" idx="9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E1BEE-B78E-486B-B250-26CBA9E8A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1EB18C-BF29-4A5E-B7C7-96179B942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dt" idx="9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dt" idx="9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dt" idx="9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dt" idx="9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dt" idx="9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dt" idx="9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96B85-A129-4BD4-B77A-93ECF48FAC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dt" idx="98"/>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dt" idx="98"/>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dt" idx="98"/>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dt" idx="98"/>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dt" idx="9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44A2E4-5B02-4E66-8F4D-C80A49F48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dt" idx="98"/>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dt" idx="100"/>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dt" idx="100"/>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dt" idx="100"/>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dt" idx="10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A1BEF-F9F4-45C8-B5A9-C0E9C69F6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dt" idx="100"/>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dt" idx="100"/>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dt" idx="100"/>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dt" idx="10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dt" idx="10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dt" idx="10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A35F2-C95D-4013-9CE8-C048216DD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dt" idx="10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dt" idx="10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dt" idx="10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dt" idx="10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dt" idx="104"/>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dt" idx="104"/>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82AB5-C7CB-4F2E-8027-D7269F586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dt" idx="104"/>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dt" idx="104"/>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dt" idx="104"/>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dt" idx="104"/>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dt" idx="104"/>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dt" idx="106"/>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dt" idx="10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60D1D-3029-4249-8074-ED31DE4B0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dt" idx="106"/>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dt" idx="106"/>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dt" idx="106"/>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dt" idx="106"/>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dt" idx="106"/>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1330D9-094F-4042-8C9A-76AF547B40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15EDB6-7896-4DFF-833C-819D174762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dt" idx="10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dt" idx="110"/>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dt" idx="110"/>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dt" idx="110"/>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dt" idx="1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52814D-3DA8-484E-A9E7-8241818486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dt" idx="110"/>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dt" idx="110"/>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dt" idx="110"/>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dt" idx="11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dt" idx="11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dt" idx="11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055C0-E4C3-40F3-9C1F-698680CB4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99D6DF-28D2-49DB-B01A-3AE84BFE6C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dt" idx="11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dt" idx="11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dt" idx="11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dt" idx="11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dt" idx="11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dt" idx="11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3B35A7-F46F-41FF-8CAF-3865E6360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dt" idx="11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dt" idx="11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dt" idx="11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dt" idx="11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dt" idx="11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dt" idx="11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dt" idx="11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43E70C-7B92-4C7D-8200-FFDD22CE78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dt" idx="11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dt" idx="11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dt" idx="11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dt" idx="11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dt" idx="116"/>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dt" idx="11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078C42-6251-4ABD-9EC2-E860455BE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dt" idx="118"/>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dt" idx="118"/>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dt" idx="118"/>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dt" idx="118"/>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dt" idx="118"/>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dt" idx="118"/>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dt" idx="118"/>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dt" idx="11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319839-2FD1-4C65-ABEF-077A9FA32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dt" idx="118"/>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dt" idx="120"/>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dt" idx="120"/>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dt" idx="120"/>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dt" idx="120"/>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dt" idx="120"/>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dt" idx="120"/>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dt" idx="12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FF682-EBFC-4640-A2CF-30D688CBF1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dt" idx="120"/>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dt" idx="120"/>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dt" idx="120"/>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dt" idx="122"/>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dt" idx="122"/>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dt" idx="122"/>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dt" idx="122"/>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dt" idx="122"/>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dt" idx="122"/>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FA5FB9-3885-4762-83CB-D8B85D2C35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dt" idx="122"/>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dt" idx="122"/>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dt" idx="122"/>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dt" idx="122"/>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dt" idx="124"/>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dt" idx="124"/>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dt" idx="124"/>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dt" idx="124"/>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dt" idx="12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B75731-FF83-41AF-9874-FA8F47767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dt" idx="124"/>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dt" idx="124"/>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dt" idx="124"/>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dt" idx="124"/>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dt" idx="124"/>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7"/>
          </p:nvPr>
        </p:nvSpPr>
        <p:spPr/>
        <p:txBody>
          <a:bodyPr/>
          <a:p>
            <a:r>
              <a:t>Footer</a:t>
            </a:r>
          </a:p>
        </p:txBody>
      </p:sp>
      <p:sp>
        <p:nvSpPr>
          <p:cNvPr id="3" name="PlaceHolder 2"/>
          <p:cNvSpPr>
            <a:spLocks noGrp="1"/>
          </p:cNvSpPr>
          <p:nvPr>
            <p:ph type="dt" idx="126"/>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dt" idx="126"/>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dt" idx="12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9730B0-64F4-472A-9291-237ACF7F4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dt" idx="126"/>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dt" idx="126"/>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dt" idx="126"/>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dt" idx="126"/>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dt" idx="126"/>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7"/>
          </p:nvPr>
        </p:nvSpPr>
        <p:spPr/>
        <p:txBody>
          <a:bodyPr/>
          <a:p>
            <a:r>
              <a:t>Footer</a:t>
            </a:r>
          </a:p>
        </p:txBody>
      </p:sp>
      <p:sp>
        <p:nvSpPr>
          <p:cNvPr id="8" name="PlaceHolder 7"/>
          <p:cNvSpPr>
            <a:spLocks noGrp="1"/>
          </p:cNvSpPr>
          <p:nvPr>
            <p:ph type="dt" idx="126"/>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7"/>
          </p:nvPr>
        </p:nvSpPr>
        <p:spPr/>
        <p:txBody>
          <a:bodyPr/>
          <a:p>
            <a:r>
              <a:t>Footer</a:t>
            </a:r>
          </a:p>
        </p:txBody>
      </p:sp>
      <p:sp>
        <p:nvSpPr>
          <p:cNvPr id="10" name="PlaceHolder 9"/>
          <p:cNvSpPr>
            <a:spLocks noGrp="1"/>
          </p:cNvSpPr>
          <p:nvPr>
            <p:ph type="dt" idx="12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D1DB30-E452-4898-8F66-8CD1F018F1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2440D-A56D-4468-9B39-596D81049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0C296B-7248-4F3A-BDDE-29BBEC6873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1A7562-60B1-44E0-9637-8835940933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CF7BC8-19B4-414D-838D-E1DEE60479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F47417-057A-476E-B7CF-E9398A602B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D2FF62-2997-46D2-A031-7E3C6416E7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F501A3-4ED6-43F7-A3E9-7A5E8D45A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BD0370-1C1E-49C1-99E8-6FC206489B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671D4-7959-4326-8377-E8AAC6672D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9CDFC9-6B54-4E1D-AAF0-1537E6F76F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4A013-3642-4144-8DC4-88CF8BF7B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0C24B-C866-4C8A-9C0A-33B61158E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30BD02-F19E-449E-B233-379762AFA5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90A9BA-565A-4545-B0CD-2F176EC9AB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7E5A61-DA75-42EB-A230-10540AB7F9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62A07B-D1C9-4702-82FF-3F90682478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ADCAC5-C551-49B7-9CDC-BF4163AB9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C89551-1B55-4703-AD9B-09AE99A7BA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89E25E-6020-440E-A1BE-CDB9ACD738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AEA0D-5A0E-4FA6-927A-60C0F85B56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DA42B5-24A1-4119-A733-364D234741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D9B628-B110-48DE-8DA7-22608CF4B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CA496-AAB1-4BA0-A6C3-7728FF803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756C8D-E3DE-4820-8ADF-60B34EEF29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BE443-39B5-4ECF-AB1F-4CF7807AF2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6F8DD1-850C-4BC9-B582-15F78A214C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C0513B-878B-483B-8529-148EC790F0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77E5EA-C8C6-42C6-96A1-6E49DBE6B2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A81B6B-FB9F-4CE0-96B5-D6BB5D01B1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128130-B41B-4700-898B-EC9F414F8B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E48143-6CFC-4090-AB25-52B2D0E48B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E89261-3342-4DF5-835F-4CE2CF05DE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1F549-9E3F-465B-8AB2-F01CBCAC51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0C46E-FC66-47B5-9A74-D1EBAF432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500906-6B2F-4971-9FFE-F90F4478FD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06A622-08F9-4466-8BAB-EC53608A1A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FD57DB-B257-425F-81C2-3EAA21F176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34084D-0311-42B5-A69A-99C879A835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3C21B9-CCE1-47D5-8193-08DD913421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0E4EE6-7BA8-4C3C-BBC3-15DB28B443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F630DB-46A6-4B26-B896-B134B0FEE0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9618C2-A2A9-409B-B218-38AF2F1352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7BC872-5EF8-4AD8-AE2D-CCA6A8CB12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A15173-1AD7-4219-9A0A-A2EAA7D194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F563-0948-4174-8B34-59642D230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B8BB-450A-4F9F-BD8E-1E0B10E03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6013-F277-4AB4-95DF-B181AD172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795A-F6D0-4D88-85BA-3E092BA96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0405-60B1-4067-A28C-8F588D88D8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30D2-A650-404C-962F-D1345A4ED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D5F3-28A2-44C0-9021-A49BFDEDC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2723-3FC3-4C8B-BE17-87CF8DA02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D4F5-EBAA-4971-9470-5955F7D77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DCF8-BC3C-41CC-9230-9D1E18381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582C-05E3-4396-87D9-49058EDD2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73A6-5173-4B97-9EF3-0B78E3C34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4B6B-200D-4F54-BF55-6CEC248E0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7A60-A5B2-4341-AC24-2FCE4F6F7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705E-F9F5-4ACA-9404-7BC35421AE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ED50-00E8-4A0E-B366-31750805A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4ABB-87DC-4BB4-A4B0-FA1F350DD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EF6D-2447-47F4-B633-EAAA35EAC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D42A-0421-414C-BE08-A523164E9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1BE6-B7BF-454F-96A6-BCD2C4AEEC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588B-BE81-4AE9-B9DE-F1F750ADF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7943-5141-4C19-B0B7-1C685C9B8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9EF3-6FEB-4670-93C9-15CD83C1C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9"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0363-BD1B-4B73-879B-774474530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2" name="Rectangle 7"/>
          <p:cNvSpPr/>
          <p:nvPr/>
        </p:nvSpPr>
        <p:spPr>
          <a:xfrm>
            <a:off x="6248520" y="665172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2"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2" name="PlaceHolder 3"/>
          <p:cNvSpPr>
            <a:spLocks noGrp="1"/>
          </p:cNvSpPr>
          <p:nvPr>
            <p:ph type="ftr" idx="9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2"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3"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4"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5"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6" name="PlaceHolder 3"/>
          <p:cNvSpPr>
            <a:spLocks noGrp="1"/>
          </p:cNvSpPr>
          <p:nvPr>
            <p:ph type="dt" idx="10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PlaceHolder 4"/>
          <p:cNvSpPr>
            <a:spLocks noGrp="1"/>
          </p:cNvSpPr>
          <p:nvPr>
            <p:ph type="ftr" idx="10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7"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8"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78EE-DE34-40EB-B781-91DD06DE67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9" name="PlaceHolder 3"/>
          <p:cNvSpPr>
            <a:spLocks noGrp="1"/>
          </p:cNvSpPr>
          <p:nvPr>
            <p:ph type="dt" idx="10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PlaceHolder 4"/>
          <p:cNvSpPr>
            <a:spLocks noGrp="1"/>
          </p:cNvSpPr>
          <p:nvPr>
            <p:ph type="ftr" idx="10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0"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1"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2" name="PlaceHolder 3"/>
          <p:cNvSpPr>
            <a:spLocks noGrp="1"/>
          </p:cNvSpPr>
          <p:nvPr>
            <p:ph type="dt" idx="1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PlaceHolder 4"/>
          <p:cNvSpPr>
            <a:spLocks noGrp="1"/>
          </p:cNvSpPr>
          <p:nvPr>
            <p:ph type="ftr" idx="1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3"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4" name="PlaceHolder 3"/>
          <p:cNvSpPr>
            <a:spLocks noGrp="1"/>
          </p:cNvSpPr>
          <p:nvPr>
            <p:ph type="dt" idx="1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PlaceHolder 4"/>
          <p:cNvSpPr>
            <a:spLocks noGrp="1"/>
          </p:cNvSpPr>
          <p:nvPr>
            <p:ph type="ftr" idx="1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5" name="PlaceHolder 3"/>
          <p:cNvSpPr>
            <a:spLocks noGrp="1"/>
          </p:cNvSpPr>
          <p:nvPr>
            <p:ph type="dt" idx="1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PlaceHolder 4"/>
          <p:cNvSpPr>
            <a:spLocks noGrp="1"/>
          </p:cNvSpPr>
          <p:nvPr>
            <p:ph type="ftr" idx="1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6" name="PlaceHolder 3"/>
          <p:cNvSpPr>
            <a:spLocks noGrp="1"/>
          </p:cNvSpPr>
          <p:nvPr>
            <p:ph type="dt" idx="1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PlaceHolder 4"/>
          <p:cNvSpPr>
            <a:spLocks noGrp="1"/>
          </p:cNvSpPr>
          <p:nvPr>
            <p:ph type="ftr" idx="1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7"/>
          <p:cNvSpPr/>
          <p:nvPr/>
        </p:nvSpPr>
        <p:spPr>
          <a:xfrm>
            <a:off x="6248520" y="664848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7" name="PlaceHolder 3"/>
          <p:cNvSpPr>
            <a:spLocks noGrp="1"/>
          </p:cNvSpPr>
          <p:nvPr>
            <p:ph type="dt" idx="1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PlaceHolder 4"/>
          <p:cNvSpPr>
            <a:spLocks noGrp="1"/>
          </p:cNvSpPr>
          <p:nvPr>
            <p:ph type="ftr" idx="1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Rectangle 7"/>
          <p:cNvSpPr/>
          <p:nvPr/>
        </p:nvSpPr>
        <p:spPr>
          <a:xfrm>
            <a:off x="6248520" y="665172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08" name="PlaceHolder 3"/>
          <p:cNvSpPr>
            <a:spLocks noGrp="1"/>
          </p:cNvSpPr>
          <p:nvPr>
            <p:ph type="dt" idx="1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PlaceHolder 4"/>
          <p:cNvSpPr>
            <a:spLocks noGrp="1"/>
          </p:cNvSpPr>
          <p:nvPr>
            <p:ph type="ftr" idx="1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749B-6279-44EA-A8ED-05A2CD418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B457-060C-452C-A488-7FE829AD7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7633-9B7F-4782-B749-63439A606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BA56-411D-4647-8FA0-F48A4B6E52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96CF-9FFA-4C22-BA8C-1185F0340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0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6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3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3" name="Text Box 6"/>
          <p:cNvSpPr/>
          <p:nvPr/>
        </p:nvSpPr>
        <p:spPr>
          <a:xfrm>
            <a:off x="0" y="2093760"/>
            <a:ext cx="91440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Informative Speech </a:t>
            </a:r>
            <a:br>
              <a:rPr sz="4800"/>
            </a:br>
            <a:r>
              <a:rPr b="1" lang="en-US" sz="2800" spc="-1" strike="noStrike">
                <a:solidFill>
                  <a:srgbClr val="000000"/>
                </a:solidFill>
                <a:latin typeface="Verdana"/>
              </a:rPr>
              <a:t>- Your Favourite Designer / Artist</a:t>
            </a:r>
            <a:endParaRPr b="0" lang="en-US" sz="2800" spc="-1" strike="noStrike">
              <a:solidFill>
                <a:srgbClr val="000000"/>
              </a:solidFill>
              <a:latin typeface="Arial"/>
            </a:endParaRPr>
          </a:p>
        </p:txBody>
      </p:sp>
      <p:sp>
        <p:nvSpPr>
          <p:cNvPr id="2054"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6" name=""/>
          <p:cNvSpPr txBox="1"/>
          <p:nvPr/>
        </p:nvSpPr>
        <p:spPr>
          <a:xfrm>
            <a:off x="457200" y="1760040"/>
            <a:ext cx="8229600" cy="4526280"/>
          </a:xfrm>
          <a:prstGeom prst="rect">
            <a:avLst/>
          </a:prstGeom>
          <a:noFill/>
          <a:ln w="0">
            <a:noFill/>
          </a:ln>
        </p:spPr>
        <p:txBody>
          <a:bodyPr anchor="t">
            <a:normAutofit fontScale="94000"/>
          </a:bodyPr>
          <a:p>
            <a:pPr marL="322200" indent="-322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xpository speech</a:t>
            </a:r>
            <a:r>
              <a:rPr b="0" lang="en-US" sz="4000" spc="-1" strike="noStrike">
                <a:solidFill>
                  <a:srgbClr val="000000"/>
                </a:solidFill>
                <a:latin typeface="Arial"/>
              </a:rPr>
              <a:t>: Provides carefully researched, in-depth knowledge about a complex topic.</a:t>
            </a:r>
            <a:endParaRPr b="0" lang="en-US" sz="40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ocial, religious, or ethical issues</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events and forces</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principle, or law</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e works</a:t>
            </a:r>
            <a:endParaRPr b="0" lang="en-US" sz="3200" spc="-1" strike="noStrike">
              <a:solidFill>
                <a:srgbClr val="000000"/>
              </a:solidFill>
              <a:latin typeface="Arial"/>
            </a:endParaRPr>
          </a:p>
        </p:txBody>
      </p:sp>
      <p:sp>
        <p:nvSpPr>
          <p:cNvPr id="207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4</a:t>
            </a:r>
            <a:endParaRPr b="0" lang="en-US" sz="1600" spc="-1" strike="noStrike">
              <a:solidFill>
                <a:srgbClr val="000000"/>
              </a:solidFill>
              <a:latin typeface="Arial"/>
            </a:endParaRPr>
          </a:p>
        </p:txBody>
      </p:sp>
      <p:sp>
        <p:nvSpPr>
          <p:cNvPr id="2078"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Informative Framewor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2056" name="PlaceHolder 2"/>
          <p:cNvSpPr>
            <a:spLocks noGrp="1"/>
          </p:cNvSpPr>
          <p:nvPr>
            <p:ph type="subTitle"/>
          </p:nvPr>
        </p:nvSpPr>
        <p:spPr>
          <a:xfrm>
            <a:off x="595440" y="1668600"/>
            <a:ext cx="7967520" cy="4906800"/>
          </a:xfrm>
          <a:prstGeom prst="rect">
            <a:avLst/>
          </a:prstGeom>
          <a:noFill/>
          <a:ln w="0">
            <a:noFill/>
          </a:ln>
        </p:spPr>
        <p:txBody>
          <a:bodyPr anchor="t">
            <a:noAutofit/>
          </a:bodyPr>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2-1</a:t>
            </a:r>
            <a:r>
              <a:rPr b="0" lang="en-US" sz="2800" spc="-1" strike="noStrike">
                <a:solidFill>
                  <a:srgbClr val="000000"/>
                </a:solidFill>
                <a:latin typeface="Arial"/>
              </a:rPr>
              <a:t>  Explain the characteristics of informative speeches.</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2-2</a:t>
            </a:r>
            <a:r>
              <a:rPr b="0" lang="en-US" sz="2800" spc="-1" strike="noStrike">
                <a:solidFill>
                  <a:srgbClr val="000000"/>
                </a:solidFill>
                <a:latin typeface="Arial"/>
              </a:rPr>
              <a:t>  Describe the major methods of informing.</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2-3</a:t>
            </a:r>
            <a:r>
              <a:rPr b="0" lang="en-US" sz="2800" spc="-1" strike="noStrike">
                <a:solidFill>
                  <a:srgbClr val="000000"/>
                </a:solidFill>
                <a:latin typeface="Arial"/>
              </a:rPr>
              <a:t>  Prepare an informative process speech.</a:t>
            </a:r>
            <a:endParaRPr b="0" lang="en-US" sz="2800" spc="-1" strike="noStrike">
              <a:solidFill>
                <a:srgbClr val="000000"/>
              </a:solidFill>
              <a:latin typeface="Arial"/>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2-4</a:t>
            </a:r>
            <a:r>
              <a:rPr b="0" lang="en-US" sz="2800" spc="-1" strike="noStrike">
                <a:solidFill>
                  <a:srgbClr val="000000"/>
                </a:solidFill>
                <a:latin typeface="Arial"/>
              </a:rPr>
              <a:t>  Prepare an informative expository spe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7" name=""/>
          <p:cNvSpPr txBox="1"/>
          <p:nvPr/>
        </p:nvSpPr>
        <p:spPr>
          <a:xfrm>
            <a:off x="457200" y="17748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a:t>
            </a:r>
            <a:r>
              <a:rPr b="0" i="1" lang="en-US" sz="3600" spc="-1" strike="noStrike">
                <a:solidFill>
                  <a:srgbClr val="000000"/>
                </a:solidFill>
                <a:latin typeface="Arial"/>
              </a:rPr>
              <a:t>informative speech</a:t>
            </a:r>
            <a:r>
              <a:rPr b="0" lang="en-US" sz="3600" spc="-1" strike="noStrike">
                <a:solidFill>
                  <a:srgbClr val="000000"/>
                </a:solidFill>
                <a:latin typeface="Arial"/>
              </a:rPr>
              <a:t> is one whose goal is to explain or describe facts, truths, and principles in a way that stimulates interest, facilitates understanding, and increases the likelihood of remembering.</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other words, informative speeches are designed to educate audiences.</a:t>
            </a:r>
            <a:endParaRPr b="0" lang="en-US" sz="3600" spc="-1" strike="noStrike">
              <a:solidFill>
                <a:srgbClr val="000000"/>
              </a:solidFill>
              <a:latin typeface="Arial"/>
            </a:endParaRPr>
          </a:p>
        </p:txBody>
      </p:sp>
      <p:sp>
        <p:nvSpPr>
          <p:cNvPr id="205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n Informative Spee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9" name=""/>
          <p:cNvSpPr txBox="1"/>
          <p:nvPr/>
        </p:nvSpPr>
        <p:spPr>
          <a:xfrm>
            <a:off x="457200" y="171612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ve speeches are:</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ly stimulating</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pth</a:t>
            </a:r>
            <a:r>
              <a:rPr b="0" lang="en-US" sz="2400" spc="-1" strike="noStrike">
                <a:solidFill>
                  <a:srgbClr val="000000"/>
                </a:solidFill>
                <a:latin typeface="Arial"/>
              </a:rPr>
              <a:t>: Goes beyond people’s general knowledge of the top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readth</a:t>
            </a:r>
            <a:r>
              <a:rPr b="0" lang="en-US" sz="2400" spc="-1" strike="noStrike">
                <a:solidFill>
                  <a:srgbClr val="000000"/>
                </a:solidFill>
                <a:latin typeface="Arial"/>
              </a:rPr>
              <a:t>: Examines how the topic relates to associated topics</a:t>
            </a:r>
            <a:endParaRPr b="0" lang="en-US" sz="24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e</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able</a:t>
            </a:r>
            <a:endParaRPr b="0" lang="en-US" sz="3200" spc="-1" strike="noStrike">
              <a:solidFill>
                <a:srgbClr val="000000"/>
              </a:solidFill>
              <a:latin typeface="Arial"/>
            </a:endParaRPr>
          </a:p>
        </p:txBody>
      </p:sp>
      <p:sp>
        <p:nvSpPr>
          <p:cNvPr id="206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1</a:t>
            </a:r>
            <a:endParaRPr b="0" lang="en-US" sz="1600" spc="-1" strike="noStrike">
              <a:solidFill>
                <a:srgbClr val="000000"/>
              </a:solidFill>
              <a:latin typeface="Arial"/>
            </a:endParaRPr>
          </a:p>
        </p:txBody>
      </p:sp>
      <p:sp>
        <p:nvSpPr>
          <p:cNvPr id="2061"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of</a:t>
            </a:r>
            <a:br>
              <a:rPr sz="3600"/>
            </a:br>
            <a:r>
              <a:rPr b="1" lang="en-US" sz="3600" spc="-1" strike="noStrike">
                <a:solidFill>
                  <a:srgbClr val="000000"/>
                </a:solidFill>
                <a:latin typeface="Arial"/>
              </a:rPr>
              <a:t>Informative Speech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2" name="Subtitle 1"/>
          <p:cNvSpPr/>
          <p:nvPr/>
        </p:nvSpPr>
        <p:spPr>
          <a:xfrm>
            <a:off x="2114640" y="817560"/>
            <a:ext cx="7029360" cy="149688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d0d0d"/>
                </a:solidFill>
                <a:latin typeface="Arial"/>
              </a:rPr>
              <a:t>Techniques for Making Informative Speech Material Memorable</a:t>
            </a:r>
            <a:endParaRPr b="0" lang="en-US" sz="3700" spc="-1" strike="noStrike">
              <a:solidFill>
                <a:srgbClr val="000000"/>
              </a:solidFill>
              <a:latin typeface="Arial"/>
            </a:endParaRPr>
          </a:p>
        </p:txBody>
      </p:sp>
      <p:pic>
        <p:nvPicPr>
          <p:cNvPr id="2063" name="Picture 6" descr=""/>
          <p:cNvPicPr/>
          <p:nvPr/>
        </p:nvPicPr>
        <p:blipFill>
          <a:blip r:embed="rId2"/>
          <a:stretch/>
        </p:blipFill>
        <p:spPr>
          <a:xfrm>
            <a:off x="0" y="2314440"/>
            <a:ext cx="9144000" cy="444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4" name=""/>
          <p:cNvSpPr txBox="1"/>
          <p:nvPr/>
        </p:nvSpPr>
        <p:spPr>
          <a:xfrm>
            <a:off x="457200" y="17748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appeal to the </a:t>
            </a:r>
            <a:r>
              <a:rPr b="0" i="1" lang="en-US" sz="4000" spc="-1" strike="noStrike">
                <a:solidFill>
                  <a:srgbClr val="000000"/>
                </a:solidFill>
                <a:latin typeface="Arial"/>
              </a:rPr>
              <a:t>feeling</a:t>
            </a:r>
            <a:r>
              <a:rPr b="0" lang="en-US" sz="4000" spc="-1" strike="noStrike">
                <a:solidFill>
                  <a:srgbClr val="000000"/>
                </a:solidFill>
                <a:latin typeface="Arial"/>
              </a:rPr>
              <a:t> </a:t>
            </a:r>
            <a:r>
              <a:rPr b="0" i="1" lang="en-US" sz="4000" spc="-1" strike="noStrike">
                <a:solidFill>
                  <a:srgbClr val="000000"/>
                </a:solidFill>
                <a:latin typeface="Arial"/>
              </a:rPr>
              <a:t>dimension</a:t>
            </a:r>
            <a:r>
              <a:rPr b="0" lang="en-US" sz="4000" spc="-1" strike="noStrike">
                <a:solidFill>
                  <a:srgbClr val="000000"/>
                </a:solidFill>
                <a:latin typeface="Arial"/>
              </a:rPr>
              <a:t>, use concrete, vivid images, stories, and exampl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appeal to the </a:t>
            </a:r>
            <a:r>
              <a:rPr b="0" i="1" lang="en-US" sz="4000" spc="-1" strike="noStrike">
                <a:solidFill>
                  <a:srgbClr val="000000"/>
                </a:solidFill>
                <a:latin typeface="Arial"/>
              </a:rPr>
              <a:t>watching</a:t>
            </a:r>
            <a:r>
              <a:rPr b="0" lang="en-US" sz="4000" spc="-1" strike="noStrike">
                <a:solidFill>
                  <a:srgbClr val="000000"/>
                </a:solidFill>
                <a:latin typeface="Arial"/>
              </a:rPr>
              <a:t> </a:t>
            </a:r>
            <a:r>
              <a:rPr b="0" i="1" lang="en-US" sz="4000" spc="-1" strike="noStrike">
                <a:solidFill>
                  <a:srgbClr val="000000"/>
                </a:solidFill>
                <a:latin typeface="Arial"/>
              </a:rPr>
              <a:t>dimension</a:t>
            </a:r>
            <a:r>
              <a:rPr b="0" lang="en-US" sz="4000" spc="-1" strike="noStrike">
                <a:solidFill>
                  <a:srgbClr val="000000"/>
                </a:solidFill>
                <a:latin typeface="Arial"/>
              </a:rPr>
              <a:t>, use visual aids and appropriate gestures and expressions.</a:t>
            </a:r>
            <a:endParaRPr b="0" lang="en-US" sz="4000" spc="-1" strike="noStrike">
              <a:solidFill>
                <a:srgbClr val="000000"/>
              </a:solidFill>
              <a:latin typeface="Arial"/>
            </a:endParaRPr>
          </a:p>
        </p:txBody>
      </p:sp>
      <p:sp>
        <p:nvSpPr>
          <p:cNvPr id="2065"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verse Learning Styles</a:t>
            </a:r>
            <a:endParaRPr b="0" lang="en-US" sz="4800" spc="-1" strike="noStrike">
              <a:solidFill>
                <a:srgbClr val="000000"/>
              </a:solidFill>
              <a:latin typeface="Arial"/>
            </a:endParaRPr>
          </a:p>
        </p:txBody>
      </p:sp>
      <p:sp>
        <p:nvSpPr>
          <p:cNvPr id="206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7" name=""/>
          <p:cNvSpPr txBox="1"/>
          <p:nvPr/>
        </p:nvSpPr>
        <p:spPr>
          <a:xfrm>
            <a:off x="457200" y="17748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appeal to the </a:t>
            </a:r>
            <a:r>
              <a:rPr b="0" i="1" lang="en-US" sz="4000" spc="-1" strike="noStrike">
                <a:solidFill>
                  <a:srgbClr val="000000"/>
                </a:solidFill>
                <a:latin typeface="Arial"/>
              </a:rPr>
              <a:t>thinking</a:t>
            </a:r>
            <a:r>
              <a:rPr b="0" lang="en-US" sz="4000" spc="-1" strike="noStrike">
                <a:solidFill>
                  <a:srgbClr val="000000"/>
                </a:solidFill>
                <a:latin typeface="Arial"/>
              </a:rPr>
              <a:t> </a:t>
            </a:r>
            <a:r>
              <a:rPr b="0" i="1" lang="en-US" sz="4000" spc="-1" strike="noStrike">
                <a:solidFill>
                  <a:srgbClr val="000000"/>
                </a:solidFill>
                <a:latin typeface="Arial"/>
              </a:rPr>
              <a:t>dimension</a:t>
            </a:r>
            <a:r>
              <a:rPr b="0" lang="en-US" sz="4000" spc="-1" strike="noStrike">
                <a:solidFill>
                  <a:srgbClr val="000000"/>
                </a:solidFill>
                <a:latin typeface="Arial"/>
              </a:rPr>
              <a:t>, use clear macrostructure and relevant dat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appeal to the </a:t>
            </a:r>
            <a:r>
              <a:rPr b="0" i="1" lang="en-US" sz="4000" spc="-1" strike="noStrike">
                <a:solidFill>
                  <a:srgbClr val="000000"/>
                </a:solidFill>
                <a:latin typeface="Arial"/>
              </a:rPr>
              <a:t>doing</a:t>
            </a:r>
            <a:r>
              <a:rPr b="0" lang="en-US" sz="4000" spc="-1" strike="noStrike">
                <a:solidFill>
                  <a:srgbClr val="000000"/>
                </a:solidFill>
                <a:latin typeface="Arial"/>
              </a:rPr>
              <a:t> </a:t>
            </a:r>
            <a:r>
              <a:rPr b="0" i="1" lang="en-US" sz="4000" spc="-1" strike="noStrike">
                <a:solidFill>
                  <a:srgbClr val="000000"/>
                </a:solidFill>
                <a:latin typeface="Arial"/>
              </a:rPr>
              <a:t>dimension</a:t>
            </a:r>
            <a:r>
              <a:rPr b="0" lang="en-US" sz="4000" spc="-1" strike="noStrike">
                <a:solidFill>
                  <a:srgbClr val="000000"/>
                </a:solidFill>
                <a:latin typeface="Arial"/>
              </a:rPr>
              <a:t>, use demonstrations and hands-on features.</a:t>
            </a:r>
            <a:endParaRPr b="0" lang="en-US" sz="4000" spc="-1" strike="noStrike">
              <a:solidFill>
                <a:srgbClr val="000000"/>
              </a:solidFill>
              <a:latin typeface="Arial"/>
            </a:endParaRPr>
          </a:p>
        </p:txBody>
      </p:sp>
      <p:sp>
        <p:nvSpPr>
          <p:cNvPr id="206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verse Learning Styles</a:t>
            </a:r>
            <a:endParaRPr b="0" lang="en-US" sz="4800" spc="-1" strike="noStrike">
              <a:solidFill>
                <a:srgbClr val="000000"/>
              </a:solidFill>
              <a:latin typeface="Arial"/>
            </a:endParaRPr>
          </a:p>
        </p:txBody>
      </p:sp>
      <p:sp>
        <p:nvSpPr>
          <p:cNvPr id="2069"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0" name=""/>
          <p:cNvSpPr txBox="1"/>
          <p:nvPr/>
        </p:nvSpPr>
        <p:spPr>
          <a:xfrm>
            <a:off x="457200" y="171612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and contrast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at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nstrating</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1"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thods of Informing</a:t>
            </a:r>
            <a:endParaRPr b="0" lang="en-US" sz="4800" spc="-1" strike="noStrike">
              <a:solidFill>
                <a:srgbClr val="000000"/>
              </a:solidFill>
              <a:latin typeface="Arial"/>
            </a:endParaRPr>
          </a:p>
        </p:txBody>
      </p:sp>
      <p:sp>
        <p:nvSpPr>
          <p:cNvPr id="207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3" name=""/>
          <p:cNvSpPr txBox="1"/>
          <p:nvPr/>
        </p:nvSpPr>
        <p:spPr>
          <a:xfrm>
            <a:off x="457200" y="1760040"/>
            <a:ext cx="8229600" cy="4526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rocess speech</a:t>
            </a:r>
            <a:r>
              <a:rPr b="0" lang="en-US" sz="4000" spc="-1" strike="noStrike">
                <a:solidFill>
                  <a:srgbClr val="000000"/>
                </a:solidFill>
                <a:latin typeface="Arial"/>
              </a:rPr>
              <a:t>: Demonstrates how something is done, made, or work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process speeches rely heavily on the demonstration method of informing.</a:t>
            </a:r>
            <a:endParaRPr b="0" lang="en-US" sz="4000" spc="-1" strike="noStrike">
              <a:solidFill>
                <a:srgbClr val="000000"/>
              </a:solidFill>
              <a:latin typeface="Arial"/>
            </a:endParaRPr>
          </a:p>
        </p:txBody>
      </p:sp>
      <p:sp>
        <p:nvSpPr>
          <p:cNvPr id="2074"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2-3</a:t>
            </a:r>
            <a:endParaRPr b="0" lang="en-US" sz="1600" spc="-1" strike="noStrike">
              <a:solidFill>
                <a:srgbClr val="000000"/>
              </a:solidFill>
              <a:latin typeface="Arial"/>
            </a:endParaRPr>
          </a:p>
        </p:txBody>
      </p:sp>
      <p:sp>
        <p:nvSpPr>
          <p:cNvPr id="2075"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Informative Framewor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5-16T10:42:49Z</cp:lastPrinted>
  <dcterms:modified xsi:type="dcterms:W3CDTF">2016-05-16T10:48:43Z</dcterms:modified>
  <cp:revision>362</cp:revision>
  <dc:subject/>
  <dc:title>Chapter One</dc:title>
</cp:coreProperties>
</file>